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E980-D751-4F2C-9D5F-9F7A688E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E7E5-7AA3-4660-894E-5D97AEA6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9474-FB62-4525-B89E-253D2D54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5BC3-808B-4F43-80CD-68D366D2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0C90-0F20-4BDC-9195-30D561B9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46C-ABFB-42B2-9CAA-7780C463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960-0173-426C-BEEF-43B3518D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94D-89BC-4415-80FF-5CA03507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99E6-B20B-45E4-B1FF-F43ADB95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2734-09B5-44FD-8A03-8BEA30CA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67A-7CD9-4B3B-BABC-617A41AC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BD4B-3F05-43A6-AA4B-50CDC75C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3D63-6CAA-4C42-A8CF-EDF4B244A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response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ly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offer our thanks and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02:37Z</dcterms:created>
  <dc:creator>Anon Anon</dc:creator>
  <dc:description/>
  <dc:language>en-US</dc:language>
  <cp:lastModifiedBy>Anon Anon</cp:lastModifiedBy>
  <dcterms:modified xsi:type="dcterms:W3CDTF">2005-08-09T05:22:07Z</dcterms:modified>
  <cp:revision>8</cp:revision>
  <dc:subject/>
  <dc:title>GPT Response (SLD-2)</dc:title>
</cp:coreProperties>
</file>